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33646"/>
        <c:axId val="1626651"/>
      </c:barChart>
      <c:catAx>
        <c:axId val="52533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6651"/>
        <c:crosses val="autoZero"/>
        <c:auto val="1"/>
        <c:lblAlgn val="ctr"/>
        <c:lblOffset val="100"/>
        <c:noMultiLvlLbl val="0"/>
      </c:catAx>
      <c:valAx>
        <c:axId val="1626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33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C64-8397-4D0C-8D1B-1C30CA56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F0E-2A11-4824-8D87-76B0287B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57B8-041A-4873-AD48-59F3F7D5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769C-8030-45B9-AE65-D074C061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B90A-9977-47D5-98B7-0FEC1520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A4D-360C-4737-B619-1325DE8B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D0E-F427-4288-B606-67620823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7923-166C-44B1-8331-042AB601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F5C-5E88-43E3-8D73-D2740EE9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EDA-8911-441A-920F-FD859CF7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63D-F6D4-47D7-8F61-6DBD2136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968-A88A-42B4-93E5-3E15519A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A02B7-693E-4DD3-B690-6E9D32DD62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