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2884"/>
        <c:axId val="41069906"/>
      </c:barChart>
      <c:catAx>
        <c:axId val="6812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69906"/>
        <c:crosses val="autoZero"/>
        <c:auto val="1"/>
        <c:lblAlgn val="ctr"/>
        <c:lblOffset val="100"/>
        <c:noMultiLvlLbl val="0"/>
      </c:catAx>
      <c:valAx>
        <c:axId val="41069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2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CC1-64BC-4553-B254-73C45CC0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B57-4468-4F22-BB7B-08BA51B3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038-C11C-425F-80BB-3D2B5814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C98-0B20-4D5C-BE3C-1A3762A5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E7F-1F9B-4823-9720-80516D0D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9EC-C065-4521-A209-AE36AE62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F02-BA70-410F-8EA9-2612B47E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876-287A-402A-92A9-EAB7C0DE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E68-D82D-4803-B752-0F2CE6EC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3BC-0A7F-4A87-8ECE-A1303D69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990-7556-402C-9D9C-091A731A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8AA-3E6C-40F9-A461-73D5CF7D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E2DFC-BDCA-4CD0-9190-6172107306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